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4A5-4C4B-4BB5-A8AC-F69543DD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449-C3B7-4D63-A966-916BCAD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CCF-180F-411C-9E70-33AE6DC1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EE0-6595-425C-B11D-9BE39356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35F3-9838-4782-8015-C03BABD5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1D60-E54F-4872-BB90-DDA69EC9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E70-6570-44F3-B2F0-6B7D5372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9841-5A3C-43EA-80DC-24CC97B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7A9-4C30-4764-8AB8-DC9041ED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DA5-2F18-412A-9B58-BC3885D1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43E5-A06E-4BB3-BA44-F0CF197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5FA-13EA-4B98-A3FF-E7A57D1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32ED-54A1-4C17-991A-E3CA985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DF3-88F7-4986-B66C-8E34E98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92C3-7205-4580-94CF-5B66BD1C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1588-0155-4B29-8CEC-31663460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1F0-FBC7-4E2C-BA34-E033B384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60A-1A2D-435D-A302-C2266CA7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CE7-1C78-4BB0-8F4C-C08B0CD3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279-48E1-48D1-8D7C-707D389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30F-BE57-459F-A252-DD72CDB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C49-A1F5-49A4-8F8B-8F64AB0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4D2-E889-4E7D-B1B8-EEA89B8D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BCF-A1FA-4063-ACFA-92DBDE8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FB82-EBC7-4E7A-9B18-05E986C28568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FAD-7188-41B8-8411-0C0943675449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Tahoma"/>
              </a:rPr>
              <a:t>Лексика</a:t>
            </a:r>
            <a:endParaRPr b="0" lang="en-US" sz="1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780000" y="260280"/>
            <a:ext cx="4744800" cy="6494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ahoma"/>
              </a:rPr>
              <a:t>Реферат по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русскому</a:t>
            </a:r>
            <a:r>
              <a:rPr b="0" lang="ru-RU" sz="2800" spc="-1" strike="noStrike" u="sng">
                <a:solidFill>
                  <a:srgbClr val="66ff33"/>
                </a:solidFill>
                <a:uFillTx/>
                <a:latin typeface="Tahoma"/>
              </a:rPr>
              <a:t> языку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ahoma"/>
              </a:rPr>
              <a:t>по теме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0" y="5460480"/>
            <a:ext cx="64008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5000"/>
          </a:bodyPr>
          <a:p>
            <a:pPr marL="205560" indent="-205560" algn="ctr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ыполнила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marL="205560" indent="-205560" algn="ctr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ченица 11 «А» СОШ №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marL="205560" indent="-205560" algn="ctr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Фёдорова Анастасия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4920" y="1052640"/>
            <a:ext cx="7086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Лексик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3428640"/>
            <a:ext cx="85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учает закономерности функционирования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я словарного состава язы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абатывает принципы стилистической классифи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ы литературного словоупотребления в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тношении с просторечие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просы профессионализмов, диалектизмов, архаизм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лог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640" y="2205000"/>
            <a:ext cx="79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совокупность слов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ый состав язы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4365720" y="4543560"/>
            <a:ext cx="4657680" cy="1814400"/>
          </a:xfrm>
          <a:custGeom>
            <a:avLst/>
            <a:gdLst/>
            <a:ahLst/>
            <a:rect l="l" t="t" r="r" b="b"/>
            <a:pathLst>
              <a:path w="12939" h="5041">
                <a:moveTo>
                  <a:pt x="23356" y="12799"/>
                </a:moveTo>
                <a:cubicBezTo>
                  <a:pt x="23381" y="12785"/>
                  <a:pt x="23386" y="12708"/>
                  <a:pt x="23455" y="12680"/>
                </a:cubicBezTo>
                <a:cubicBezTo>
                  <a:pt x="23557" y="12638"/>
                  <a:pt x="23658" y="12616"/>
                  <a:pt x="23773" y="12621"/>
                </a:cubicBezTo>
                <a:cubicBezTo>
                  <a:pt x="23879" y="12626"/>
                  <a:pt x="23938" y="12661"/>
                  <a:pt x="24011" y="12700"/>
                </a:cubicBezTo>
                <a:cubicBezTo>
                  <a:pt x="24155" y="12777"/>
                  <a:pt x="24228" y="12894"/>
                  <a:pt x="24328" y="13018"/>
                </a:cubicBezTo>
                <a:cubicBezTo>
                  <a:pt x="24373" y="13074"/>
                  <a:pt x="24413" y="13132"/>
                  <a:pt x="24448" y="13196"/>
                </a:cubicBezTo>
                <a:cubicBezTo>
                  <a:pt x="24487" y="13267"/>
                  <a:pt x="24506" y="13318"/>
                  <a:pt x="24527" y="13395"/>
                </a:cubicBezTo>
                <a:cubicBezTo>
                  <a:pt x="24572" y="13557"/>
                  <a:pt x="24561" y="13649"/>
                  <a:pt x="24527" y="13811"/>
                </a:cubicBezTo>
                <a:cubicBezTo>
                  <a:pt x="24493" y="13969"/>
                  <a:pt x="24403" y="14110"/>
                  <a:pt x="24328" y="14248"/>
                </a:cubicBezTo>
                <a:cubicBezTo>
                  <a:pt x="24263" y="14367"/>
                  <a:pt x="24194" y="14493"/>
                  <a:pt x="24110" y="14605"/>
                </a:cubicBezTo>
                <a:cubicBezTo>
                  <a:pt x="24020" y="14724"/>
                  <a:pt x="23912" y="14817"/>
                  <a:pt x="23812" y="14922"/>
                </a:cubicBezTo>
                <a:cubicBezTo>
                  <a:pt x="23732" y="15006"/>
                  <a:pt x="23657" y="15082"/>
                  <a:pt x="23574" y="15161"/>
                </a:cubicBezTo>
                <a:cubicBezTo>
                  <a:pt x="23478" y="15253"/>
                  <a:pt x="23385" y="15316"/>
                  <a:pt x="23297" y="15419"/>
                </a:cubicBezTo>
                <a:cubicBezTo>
                  <a:pt x="23241" y="15484"/>
                  <a:pt x="23182" y="15565"/>
                  <a:pt x="23138" y="15637"/>
                </a:cubicBezTo>
                <a:cubicBezTo>
                  <a:pt x="23093" y="15710"/>
                  <a:pt x="23045" y="15776"/>
                  <a:pt x="23019" y="15855"/>
                </a:cubicBezTo>
                <a:cubicBezTo>
                  <a:pt x="22995" y="15927"/>
                  <a:pt x="22985" y="15998"/>
                  <a:pt x="22979" y="16073"/>
                </a:cubicBezTo>
                <a:cubicBezTo>
                  <a:pt x="22970" y="16189"/>
                  <a:pt x="22988" y="16277"/>
                  <a:pt x="23019" y="16371"/>
                </a:cubicBezTo>
                <a:cubicBezTo>
                  <a:pt x="23044" y="16448"/>
                  <a:pt x="23060" y="16482"/>
                  <a:pt x="23118" y="16550"/>
                </a:cubicBezTo>
                <a:cubicBezTo>
                  <a:pt x="23161" y="16600"/>
                  <a:pt x="23218" y="16660"/>
                  <a:pt x="23277" y="16689"/>
                </a:cubicBezTo>
                <a:cubicBezTo>
                  <a:pt x="23342" y="16720"/>
                  <a:pt x="23426" y="16719"/>
                  <a:pt x="23495" y="16728"/>
                </a:cubicBezTo>
                <a:cubicBezTo>
                  <a:pt x="23739" y="16761"/>
                  <a:pt x="24168" y="16684"/>
                  <a:pt x="24368" y="16550"/>
                </a:cubicBezTo>
                <a:cubicBezTo>
                  <a:pt x="24417" y="16517"/>
                  <a:pt x="24481" y="16473"/>
                  <a:pt x="24507" y="16431"/>
                </a:cubicBezTo>
                <a:cubicBezTo>
                  <a:pt x="24556" y="16354"/>
                  <a:pt x="24517" y="16251"/>
                  <a:pt x="24507" y="16173"/>
                </a:cubicBezTo>
                <a:cubicBezTo>
                  <a:pt x="24501" y="16130"/>
                  <a:pt x="24466" y="16055"/>
                  <a:pt x="24448" y="16014"/>
                </a:cubicBezTo>
                <a:cubicBezTo>
                  <a:pt x="24424" y="15960"/>
                  <a:pt x="24368" y="15877"/>
                  <a:pt x="24328" y="15835"/>
                </a:cubicBezTo>
                <a:cubicBezTo>
                  <a:pt x="24272" y="15777"/>
                  <a:pt x="24163" y="15728"/>
                  <a:pt x="24090" y="15696"/>
                </a:cubicBezTo>
                <a:cubicBezTo>
                  <a:pt x="24017" y="15664"/>
                  <a:pt x="23942" y="15633"/>
                  <a:pt x="23852" y="15617"/>
                </a:cubicBezTo>
                <a:cubicBezTo>
                  <a:pt x="23414" y="15540"/>
                  <a:pt x="22873" y="15626"/>
                  <a:pt x="22463" y="15776"/>
                </a:cubicBezTo>
                <a:cubicBezTo>
                  <a:pt x="22272" y="15846"/>
                  <a:pt x="22090" y="15935"/>
                  <a:pt x="21908" y="16014"/>
                </a:cubicBezTo>
                <a:cubicBezTo>
                  <a:pt x="21771" y="16073"/>
                  <a:pt x="21642" y="16149"/>
                  <a:pt x="21511" y="16212"/>
                </a:cubicBezTo>
                <a:cubicBezTo>
                  <a:pt x="21125" y="16400"/>
                  <a:pt x="20738" y="16590"/>
                  <a:pt x="20340" y="16748"/>
                </a:cubicBezTo>
                <a:cubicBezTo>
                  <a:pt x="19907" y="16920"/>
                  <a:pt x="19474" y="17083"/>
                  <a:pt x="19030" y="17224"/>
                </a:cubicBezTo>
                <a:cubicBezTo>
                  <a:pt x="18850" y="17281"/>
                  <a:pt x="18675" y="17349"/>
                  <a:pt x="18494" y="17403"/>
                </a:cubicBezTo>
                <a:cubicBezTo>
                  <a:pt x="18304" y="17460"/>
                  <a:pt x="18114" y="17514"/>
                  <a:pt x="17919" y="17562"/>
                </a:cubicBezTo>
                <a:cubicBezTo>
                  <a:pt x="17559" y="17650"/>
                  <a:pt x="17216" y="17659"/>
                  <a:pt x="16847" y="17661"/>
                </a:cubicBezTo>
                <a:cubicBezTo>
                  <a:pt x="16126" y="17666"/>
                  <a:pt x="15355" y="17731"/>
                  <a:pt x="14645" y="17601"/>
                </a:cubicBezTo>
                <a:cubicBezTo>
                  <a:pt x="14423" y="17560"/>
                  <a:pt x="14195" y="17504"/>
                  <a:pt x="13970" y="17462"/>
                </a:cubicBezTo>
                <a:cubicBezTo>
                  <a:pt x="13563" y="17386"/>
                  <a:pt x="13195" y="17300"/>
                  <a:pt x="12819" y="17125"/>
                </a:cubicBezTo>
                <a:cubicBezTo>
                  <a:pt x="12668" y="17055"/>
                  <a:pt x="12488" y="16958"/>
                  <a:pt x="12363" y="16847"/>
                </a:cubicBezTo>
                <a:cubicBezTo>
                  <a:pt x="12287" y="16779"/>
                  <a:pt x="12255" y="16720"/>
                  <a:pt x="12204" y="16629"/>
                </a:cubicBezTo>
                <a:cubicBezTo>
                  <a:pt x="12163" y="16555"/>
                  <a:pt x="12158" y="16501"/>
                  <a:pt x="12144" y="16411"/>
                </a:cubicBezTo>
                <a:cubicBezTo>
                  <a:pt x="12130" y="16324"/>
                  <a:pt x="12124" y="16256"/>
                  <a:pt x="12144" y="16173"/>
                </a:cubicBezTo>
                <a:cubicBezTo>
                  <a:pt x="12169" y="16071"/>
                  <a:pt x="12242" y="15966"/>
                  <a:pt x="12303" y="15895"/>
                </a:cubicBezTo>
                <a:cubicBezTo>
                  <a:pt x="12348" y="15843"/>
                  <a:pt x="12456" y="15765"/>
                  <a:pt x="12521" y="15736"/>
                </a:cubicBezTo>
                <a:cubicBezTo>
                  <a:pt x="12612" y="15696"/>
                  <a:pt x="12756" y="15671"/>
                  <a:pt x="12859" y="15657"/>
                </a:cubicBezTo>
                <a:cubicBezTo>
                  <a:pt x="13106" y="15623"/>
                  <a:pt x="13383" y="15630"/>
                  <a:pt x="13633" y="15637"/>
                </a:cubicBezTo>
                <a:cubicBezTo>
                  <a:pt x="13792" y="15642"/>
                  <a:pt x="13874" y="15648"/>
                  <a:pt x="14030" y="15677"/>
                </a:cubicBezTo>
                <a:cubicBezTo>
                  <a:pt x="14057" y="15677"/>
                  <a:pt x="14071" y="15681"/>
                  <a:pt x="14089" y="15696"/>
                </a:cubicBezTo>
                <a:cubicBezTo>
                  <a:pt x="14090" y="15728"/>
                  <a:pt x="14151" y="15768"/>
                  <a:pt x="14149" y="15796"/>
                </a:cubicBezTo>
                <a:cubicBezTo>
                  <a:pt x="14141" y="15923"/>
                  <a:pt x="14148" y="15996"/>
                  <a:pt x="14069" y="16113"/>
                </a:cubicBezTo>
                <a:cubicBezTo>
                  <a:pt x="14032" y="16168"/>
                  <a:pt x="13981" y="16225"/>
                  <a:pt x="13930" y="16272"/>
                </a:cubicBezTo>
                <a:cubicBezTo>
                  <a:pt x="13911" y="16289"/>
                  <a:pt x="13831" y="16295"/>
                  <a:pt x="13811" y="16312"/>
                </a:cubicBezTo>
              </a:path>
              <a:path w="12939" h="5041">
                <a:moveTo>
                  <a:pt x="21233" y="17006"/>
                </a:moveTo>
                <a:cubicBezTo>
                  <a:pt x="21182" y="17012"/>
                  <a:pt x="21144" y="17027"/>
                  <a:pt x="21094" y="17046"/>
                </a:cubicBezTo>
                <a:cubicBezTo>
                  <a:pt x="20923" y="17112"/>
                  <a:pt x="20755" y="17177"/>
                  <a:pt x="20578" y="17224"/>
                </a:cubicBezTo>
                <a:cubicBezTo>
                  <a:pt x="20362" y="17282"/>
                  <a:pt x="20144" y="17332"/>
                  <a:pt x="19923" y="17363"/>
                </a:cubicBezTo>
                <a:cubicBezTo>
                  <a:pt x="19782" y="17383"/>
                  <a:pt x="19648" y="17383"/>
                  <a:pt x="19506" y="17383"/>
                </a:cubicBezTo>
                <a:cubicBezTo>
                  <a:pt x="19460" y="17383"/>
                  <a:pt x="19453" y="17383"/>
                  <a:pt x="19427" y="17383"/>
                </a:cubicBezTo>
              </a:path>
              <a:path w="12939" h="5041">
                <a:moveTo>
                  <a:pt x="24944" y="13990"/>
                </a:moveTo>
                <a:cubicBezTo>
                  <a:pt x="24944" y="14039"/>
                  <a:pt x="24941" y="14062"/>
                  <a:pt x="24924" y="14109"/>
                </a:cubicBezTo>
                <a:cubicBezTo>
                  <a:pt x="24899" y="14177"/>
                  <a:pt x="24870" y="14221"/>
                  <a:pt x="24844" y="14268"/>
                </a:cubicBezTo>
                <a:cubicBezTo>
                  <a:pt x="24819" y="14315"/>
                  <a:pt x="24814" y="14356"/>
                  <a:pt x="24765" y="14387"/>
                </a:cubicBezTo>
                <a:cubicBezTo>
                  <a:pt x="24713" y="14420"/>
                  <a:pt x="24712" y="14408"/>
                  <a:pt x="24666" y="14446"/>
                </a:cubicBezTo>
                <a:cubicBezTo>
                  <a:pt x="24648" y="14464"/>
                  <a:pt x="24641" y="14468"/>
                  <a:pt x="24646" y="14486"/>
                </a:cubicBezTo>
                <a:cubicBezTo>
                  <a:pt x="24632" y="14488"/>
                  <a:pt x="24557" y="14496"/>
                  <a:pt x="24547" y="14506"/>
                </a:cubicBezTo>
                <a:cubicBezTo>
                  <a:pt x="24547" y="14513"/>
                  <a:pt x="24547" y="14519"/>
                  <a:pt x="24547" y="14526"/>
                </a:cubicBezTo>
              </a:path>
              <a:path w="12939" h="5041">
                <a:moveTo>
                  <a:pt x="25063" y="14446"/>
                </a:moveTo>
                <a:lnTo>
                  <a:pt x="25063" y="144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00880" y="6335640"/>
            <a:ext cx="136440" cy="130320"/>
          </a:xfrm>
          <a:custGeom>
            <a:avLst/>
            <a:gdLst/>
            <a:ahLst/>
            <a:rect l="l" t="t" r="r" b="b"/>
            <a:pathLst>
              <a:path w="378" h="359">
                <a:moveTo>
                  <a:pt x="20558" y="17661"/>
                </a:moveTo>
                <a:cubicBezTo>
                  <a:pt x="20629" y="17661"/>
                  <a:pt x="20690" y="17652"/>
                  <a:pt x="20757" y="17641"/>
                </a:cubicBezTo>
                <a:cubicBezTo>
                  <a:pt x="20799" y="17634"/>
                  <a:pt x="20882" y="17647"/>
                  <a:pt x="20915" y="17621"/>
                </a:cubicBezTo>
                <a:cubicBezTo>
                  <a:pt x="20915" y="17601"/>
                  <a:pt x="20915" y="17594"/>
                  <a:pt x="20935" y="17601"/>
                </a:cubicBezTo>
              </a:path>
              <a:path w="378" h="359">
                <a:moveTo>
                  <a:pt x="20935" y="17959"/>
                </a:moveTo>
                <a:lnTo>
                  <a:pt x="20935" y="1795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48360" y="4365720"/>
            <a:ext cx="3816360" cy="24922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492280"/>
            <a:ext cx="3816360" cy="23050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72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Heoлoгизмы -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101"/>
                </a:solidFill>
                <a:latin typeface="Arial"/>
              </a:rPr>
              <a:t>cлoвa, oбoзнaчaющиe нoвыe пoнятия  и  пpeдмeты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3357720"/>
            <a:ext cx="3646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eoлoгизмы,  cтaвшиe  тepминa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35640" y="2637000"/>
          <a:ext cx="3467160" cy="2134800"/>
        </p:xfrm>
        <a:graphic>
          <a:graphicData uri="http://schemas.openxmlformats.org/drawingml/2006/table">
            <a:tbl>
              <a:tblPr/>
              <a:tblGrid>
                <a:gridCol w="3467160"/>
              </a:tblGrid>
              <a:tr h="21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пyтникoвaя  инфopмaция, aвтoсалон,   пpecc-ceкpeтapь,    мyниципaльный,    пpeфeктypa, дeпoзитapий, телефaк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258920" y="4581360"/>
          <a:ext cx="3467160" cy="1590840"/>
        </p:xfrm>
        <a:graphic>
          <a:graphicData uri="http://schemas.openxmlformats.org/drawingml/2006/table">
            <a:tbl>
              <a:tblPr/>
              <a:tblGrid>
                <a:gridCol w="346716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 txBox="1"/>
          <p:nvPr/>
        </p:nvSpPr>
        <p:spPr>
          <a:xfrm>
            <a:off x="5076720" y="4723920"/>
            <a:ext cx="3959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нонс - объявление,            изжитиe - иcключeниe, изжитиe - ликвидaция, caниpoвaние - oздopoвлeни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5013360"/>
            <a:ext cx="3755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логизмы-пpoфeccиoнaл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5013360"/>
            <a:ext cx="3467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5734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9440" y="3722760"/>
            <a:ext cx="4300560" cy="2735280"/>
          </a:xfrm>
          <a:custGeom>
            <a:avLst/>
            <a:gdLst/>
            <a:ahLst/>
            <a:rect l="l" t="t" r="r" b="b"/>
            <a:pathLst>
              <a:path w="11947" h="7601">
                <a:moveTo>
                  <a:pt x="1052" y="10339"/>
                </a:moveTo>
                <a:cubicBezTo>
                  <a:pt x="1084" y="10350"/>
                  <a:pt x="1086" y="10351"/>
                  <a:pt x="1111" y="10358"/>
                </a:cubicBezTo>
                <a:cubicBezTo>
                  <a:pt x="1185" y="10380"/>
                  <a:pt x="1286" y="10371"/>
                  <a:pt x="1349" y="10418"/>
                </a:cubicBezTo>
                <a:cubicBezTo>
                  <a:pt x="1398" y="10454"/>
                  <a:pt x="1424" y="10474"/>
                  <a:pt x="1468" y="10517"/>
                </a:cubicBezTo>
                <a:cubicBezTo>
                  <a:pt x="1493" y="10541"/>
                  <a:pt x="1513" y="10572"/>
                  <a:pt x="1528" y="10597"/>
                </a:cubicBezTo>
                <a:cubicBezTo>
                  <a:pt x="1552" y="10635"/>
                  <a:pt x="1573" y="10637"/>
                  <a:pt x="1588" y="10676"/>
                </a:cubicBezTo>
                <a:cubicBezTo>
                  <a:pt x="1599" y="10705"/>
                  <a:pt x="1604" y="10735"/>
                  <a:pt x="1607" y="10755"/>
                </a:cubicBezTo>
                <a:cubicBezTo>
                  <a:pt x="1640" y="10953"/>
                  <a:pt x="1560" y="10996"/>
                  <a:pt x="1488" y="11112"/>
                </a:cubicBezTo>
                <a:cubicBezTo>
                  <a:pt x="1476" y="11131"/>
                  <a:pt x="1440" y="11156"/>
                  <a:pt x="1429" y="11172"/>
                </a:cubicBezTo>
                <a:cubicBezTo>
                  <a:pt x="1420" y="11185"/>
                  <a:pt x="1401" y="11196"/>
                  <a:pt x="1389" y="11212"/>
                </a:cubicBezTo>
                <a:cubicBezTo>
                  <a:pt x="1324" y="11298"/>
                  <a:pt x="1252" y="11350"/>
                  <a:pt x="1210" y="11450"/>
                </a:cubicBezTo>
                <a:cubicBezTo>
                  <a:pt x="1183" y="11513"/>
                  <a:pt x="1145" y="11549"/>
                  <a:pt x="1151" y="11628"/>
                </a:cubicBezTo>
                <a:cubicBezTo>
                  <a:pt x="1154" y="11675"/>
                  <a:pt x="1159" y="11665"/>
                  <a:pt x="1171" y="11708"/>
                </a:cubicBezTo>
                <a:cubicBezTo>
                  <a:pt x="1185" y="11760"/>
                  <a:pt x="1211" y="11770"/>
                  <a:pt x="1230" y="11807"/>
                </a:cubicBezTo>
                <a:cubicBezTo>
                  <a:pt x="1258" y="11862"/>
                  <a:pt x="1315" y="11897"/>
                  <a:pt x="1349" y="11946"/>
                </a:cubicBezTo>
                <a:cubicBezTo>
                  <a:pt x="1392" y="12008"/>
                  <a:pt x="1444" y="12062"/>
                  <a:pt x="1488" y="12125"/>
                </a:cubicBezTo>
                <a:cubicBezTo>
                  <a:pt x="1527" y="12181"/>
                  <a:pt x="1571" y="12222"/>
                  <a:pt x="1607" y="12283"/>
                </a:cubicBezTo>
                <a:cubicBezTo>
                  <a:pt x="1636" y="12332"/>
                  <a:pt x="1647" y="12393"/>
                  <a:pt x="1667" y="12442"/>
                </a:cubicBezTo>
                <a:cubicBezTo>
                  <a:pt x="1698" y="12517"/>
                  <a:pt x="1737" y="12541"/>
                  <a:pt x="1746" y="12640"/>
                </a:cubicBezTo>
                <a:cubicBezTo>
                  <a:pt x="1760" y="12792"/>
                  <a:pt x="1701" y="12835"/>
                  <a:pt x="1647" y="12958"/>
                </a:cubicBezTo>
                <a:cubicBezTo>
                  <a:pt x="1607" y="13049"/>
                  <a:pt x="1540" y="13123"/>
                  <a:pt x="1488" y="13196"/>
                </a:cubicBezTo>
                <a:cubicBezTo>
                  <a:pt x="1430" y="13277"/>
                  <a:pt x="1367" y="13332"/>
                  <a:pt x="1310" y="13414"/>
                </a:cubicBezTo>
                <a:cubicBezTo>
                  <a:pt x="1286" y="13449"/>
                  <a:pt x="1223" y="13505"/>
                  <a:pt x="1210" y="13533"/>
                </a:cubicBezTo>
                <a:cubicBezTo>
                  <a:pt x="1182" y="13594"/>
                  <a:pt x="1146" y="13702"/>
                  <a:pt x="1131" y="13772"/>
                </a:cubicBezTo>
                <a:cubicBezTo>
                  <a:pt x="1078" y="14019"/>
                  <a:pt x="1181" y="14244"/>
                  <a:pt x="1310" y="14426"/>
                </a:cubicBezTo>
                <a:cubicBezTo>
                  <a:pt x="1391" y="14540"/>
                  <a:pt x="1507" y="14612"/>
                  <a:pt x="1588" y="14724"/>
                </a:cubicBezTo>
                <a:cubicBezTo>
                  <a:pt x="1629" y="14781"/>
                  <a:pt x="1662" y="14789"/>
                  <a:pt x="1687" y="14843"/>
                </a:cubicBezTo>
                <a:cubicBezTo>
                  <a:pt x="1727" y="14928"/>
                  <a:pt x="1744" y="14961"/>
                  <a:pt x="1746" y="15061"/>
                </a:cubicBezTo>
                <a:cubicBezTo>
                  <a:pt x="1747" y="15112"/>
                  <a:pt x="1736" y="15134"/>
                  <a:pt x="1726" y="15180"/>
                </a:cubicBezTo>
                <a:cubicBezTo>
                  <a:pt x="1717" y="15225"/>
                  <a:pt x="1680" y="15255"/>
                  <a:pt x="1667" y="15300"/>
                </a:cubicBezTo>
                <a:cubicBezTo>
                  <a:pt x="1666" y="15304"/>
                  <a:pt x="1613" y="15358"/>
                  <a:pt x="1607" y="15379"/>
                </a:cubicBezTo>
                <a:cubicBezTo>
                  <a:pt x="1600" y="15406"/>
                  <a:pt x="1571" y="15455"/>
                  <a:pt x="1568" y="15478"/>
                </a:cubicBezTo>
                <a:cubicBezTo>
                  <a:pt x="1554" y="15587"/>
                  <a:pt x="1548" y="15642"/>
                  <a:pt x="1588" y="15756"/>
                </a:cubicBezTo>
                <a:cubicBezTo>
                  <a:pt x="1672" y="15994"/>
                  <a:pt x="1972" y="16219"/>
                  <a:pt x="2143" y="16371"/>
                </a:cubicBezTo>
                <a:cubicBezTo>
                  <a:pt x="2165" y="16390"/>
                  <a:pt x="2327" y="16548"/>
                  <a:pt x="2342" y="16550"/>
                </a:cubicBezTo>
                <a:cubicBezTo>
                  <a:pt x="2452" y="16568"/>
                  <a:pt x="2502" y="16473"/>
                  <a:pt x="2600" y="16470"/>
                </a:cubicBezTo>
                <a:cubicBezTo>
                  <a:pt x="2642" y="16469"/>
                  <a:pt x="2724" y="16453"/>
                  <a:pt x="2778" y="16450"/>
                </a:cubicBezTo>
                <a:cubicBezTo>
                  <a:pt x="3017" y="16438"/>
                  <a:pt x="3196" y="16471"/>
                  <a:pt x="3413" y="16570"/>
                </a:cubicBezTo>
                <a:cubicBezTo>
                  <a:pt x="3485" y="16603"/>
                  <a:pt x="3528" y="16623"/>
                  <a:pt x="3592" y="16669"/>
                </a:cubicBezTo>
                <a:cubicBezTo>
                  <a:pt x="3757" y="16787"/>
                  <a:pt x="3850" y="16966"/>
                  <a:pt x="4008" y="17085"/>
                </a:cubicBezTo>
                <a:cubicBezTo>
                  <a:pt x="4144" y="17188"/>
                  <a:pt x="4290" y="17256"/>
                  <a:pt x="4445" y="17324"/>
                </a:cubicBezTo>
                <a:cubicBezTo>
                  <a:pt x="4677" y="17426"/>
                  <a:pt x="4962" y="17511"/>
                  <a:pt x="5219" y="17462"/>
                </a:cubicBezTo>
                <a:cubicBezTo>
                  <a:pt x="5332" y="17440"/>
                  <a:pt x="5468" y="17368"/>
                  <a:pt x="5576" y="17324"/>
                </a:cubicBezTo>
                <a:cubicBezTo>
                  <a:pt x="5758" y="17250"/>
                  <a:pt x="5928" y="17147"/>
                  <a:pt x="6112" y="17085"/>
                </a:cubicBezTo>
                <a:cubicBezTo>
                  <a:pt x="6312" y="17018"/>
                  <a:pt x="6496" y="16981"/>
                  <a:pt x="6707" y="16966"/>
                </a:cubicBezTo>
                <a:cubicBezTo>
                  <a:pt x="6962" y="16948"/>
                  <a:pt x="7185" y="16993"/>
                  <a:pt x="7422" y="17085"/>
                </a:cubicBezTo>
                <a:cubicBezTo>
                  <a:pt x="7544" y="17132"/>
                  <a:pt x="7659" y="17207"/>
                  <a:pt x="7779" y="17264"/>
                </a:cubicBezTo>
                <a:cubicBezTo>
                  <a:pt x="7907" y="17325"/>
                  <a:pt x="8034" y="17391"/>
                  <a:pt x="8156" y="17462"/>
                </a:cubicBezTo>
                <a:cubicBezTo>
                  <a:pt x="8269" y="17528"/>
                  <a:pt x="8380" y="17594"/>
                  <a:pt x="8493" y="17661"/>
                </a:cubicBezTo>
                <a:cubicBezTo>
                  <a:pt x="8680" y="17772"/>
                  <a:pt x="8901" y="17941"/>
                  <a:pt x="9128" y="17939"/>
                </a:cubicBezTo>
                <a:cubicBezTo>
                  <a:pt x="9212" y="17938"/>
                  <a:pt x="9276" y="17907"/>
                  <a:pt x="9346" y="17879"/>
                </a:cubicBezTo>
                <a:cubicBezTo>
                  <a:pt x="9428" y="17846"/>
                  <a:pt x="9507" y="17743"/>
                  <a:pt x="9585" y="17701"/>
                </a:cubicBezTo>
                <a:cubicBezTo>
                  <a:pt x="9684" y="17648"/>
                  <a:pt x="9799" y="17585"/>
                  <a:pt x="9902" y="17542"/>
                </a:cubicBezTo>
                <a:cubicBezTo>
                  <a:pt x="10192" y="17422"/>
                  <a:pt x="10503" y="17413"/>
                  <a:pt x="10815" y="17403"/>
                </a:cubicBezTo>
                <a:cubicBezTo>
                  <a:pt x="11073" y="17394"/>
                  <a:pt x="11260" y="17412"/>
                  <a:pt x="11490" y="17522"/>
                </a:cubicBezTo>
                <a:cubicBezTo>
                  <a:pt x="11575" y="17563"/>
                  <a:pt x="11641" y="17639"/>
                  <a:pt x="11728" y="17681"/>
                </a:cubicBezTo>
                <a:cubicBezTo>
                  <a:pt x="11809" y="17720"/>
                  <a:pt x="11885" y="17764"/>
                  <a:pt x="11966" y="17800"/>
                </a:cubicBezTo>
                <a:cubicBezTo>
                  <a:pt x="12228" y="17915"/>
                  <a:pt x="12300" y="17909"/>
                  <a:pt x="12521" y="17780"/>
                </a:cubicBezTo>
                <a:cubicBezTo>
                  <a:pt x="12575" y="17748"/>
                  <a:pt x="12616" y="17677"/>
                  <a:pt x="12660" y="17641"/>
                </a:cubicBezTo>
                <a:cubicBezTo>
                  <a:pt x="12728" y="17584"/>
                  <a:pt x="12780" y="17528"/>
                  <a:pt x="12839" y="17462"/>
                </a:cubicBezTo>
                <a:cubicBezTo>
                  <a:pt x="12888" y="17407"/>
                  <a:pt x="12956" y="17378"/>
                  <a:pt x="12998" y="17324"/>
                </a:cubicBezTo>
                <a:cubicBezTo>
                  <a:pt x="13007" y="17312"/>
                  <a:pt x="12988" y="17275"/>
                  <a:pt x="12998" y="17264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7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7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6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6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7640" y="1052640"/>
            <a:ext cx="7086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пeциaльная лeкcик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101"/>
                </a:solidFill>
                <a:uFillTx/>
                <a:latin typeface="Arial"/>
              </a:rPr>
              <a:t>Тepм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)номенклатура  наименований  (АООТ   «Олимп»,   ИЧП   «Старт»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2)номенклатура  должностей  (менеджер  по  продажам,   рекламный менеджер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3)номенклатура товаров  (ЗИЛ-130,  Электропривод  СП-6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4920" y="4149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101"/>
                </a:solidFill>
                <a:uFillTx/>
                <a:latin typeface="Arial"/>
              </a:rPr>
              <a:t>Пpoфeccиoнaлиз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paнcплaнтaция - пepecaдкa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apдaннo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ycтpoйcтвo  -кapдa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30200" y="5923080"/>
            <a:ext cx="871380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94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офессиональная жаргонная лексика:</a:t>
            </a:r>
            <a:endParaRPr b="0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туденты-дневники, наличка, безнал, дострой...</a:t>
            </a:r>
            <a:endParaRPr b="0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373720"/>
            <a:ext cx="7693200" cy="1306440"/>
          </a:xfrm>
          <a:custGeom>
            <a:avLst/>
            <a:gdLst/>
            <a:ahLst/>
            <a:rect l="l" t="t" r="r" b="b"/>
            <a:pathLst>
              <a:path w="21372" h="3632">
                <a:moveTo>
                  <a:pt x="10358" y="15220"/>
                </a:moveTo>
                <a:cubicBezTo>
                  <a:pt x="10336" y="15209"/>
                  <a:pt x="10317" y="15179"/>
                  <a:pt x="10279" y="15161"/>
                </a:cubicBezTo>
                <a:cubicBezTo>
                  <a:pt x="10227" y="15136"/>
                  <a:pt x="10191" y="15107"/>
                  <a:pt x="10140" y="15081"/>
                </a:cubicBezTo>
                <a:cubicBezTo>
                  <a:pt x="10074" y="15048"/>
                  <a:pt x="10026" y="15024"/>
                  <a:pt x="9962" y="15002"/>
                </a:cubicBezTo>
                <a:cubicBezTo>
                  <a:pt x="9923" y="14989"/>
                  <a:pt x="9908" y="14962"/>
                  <a:pt x="9823" y="14942"/>
                </a:cubicBezTo>
                <a:cubicBezTo>
                  <a:pt x="9742" y="14923"/>
                  <a:pt x="9648" y="14913"/>
                  <a:pt x="9565" y="14903"/>
                </a:cubicBezTo>
                <a:cubicBezTo>
                  <a:pt x="9311" y="14874"/>
                  <a:pt x="9140" y="14963"/>
                  <a:pt x="8910" y="15002"/>
                </a:cubicBezTo>
                <a:cubicBezTo>
                  <a:pt x="8737" y="15032"/>
                  <a:pt x="8583" y="15053"/>
                  <a:pt x="8394" y="15061"/>
                </a:cubicBezTo>
                <a:cubicBezTo>
                  <a:pt x="7954" y="15080"/>
                  <a:pt x="7284" y="14903"/>
                  <a:pt x="6866" y="15042"/>
                </a:cubicBezTo>
                <a:cubicBezTo>
                  <a:pt x="6684" y="15102"/>
                  <a:pt x="6569" y="15272"/>
                  <a:pt x="6390" y="15319"/>
                </a:cubicBezTo>
                <a:cubicBezTo>
                  <a:pt x="6200" y="15369"/>
                  <a:pt x="6084" y="15333"/>
                  <a:pt x="5894" y="15319"/>
                </a:cubicBezTo>
                <a:cubicBezTo>
                  <a:pt x="5545" y="15293"/>
                  <a:pt x="4962" y="15093"/>
                  <a:pt x="4643" y="15300"/>
                </a:cubicBezTo>
                <a:cubicBezTo>
                  <a:pt x="4564" y="15351"/>
                  <a:pt x="4558" y="15344"/>
                  <a:pt x="4505" y="15419"/>
                </a:cubicBezTo>
                <a:cubicBezTo>
                  <a:pt x="4410" y="15553"/>
                  <a:pt x="4499" y="15871"/>
                  <a:pt x="4385" y="15954"/>
                </a:cubicBezTo>
                <a:cubicBezTo>
                  <a:pt x="4361" y="15972"/>
                  <a:pt x="4322" y="15954"/>
                  <a:pt x="4286" y="15974"/>
                </a:cubicBezTo>
                <a:cubicBezTo>
                  <a:pt x="4210" y="16017"/>
                  <a:pt x="4115" y="15975"/>
                  <a:pt x="4028" y="15994"/>
                </a:cubicBezTo>
                <a:cubicBezTo>
                  <a:pt x="3773" y="16051"/>
                  <a:pt x="3523" y="16027"/>
                  <a:pt x="3274" y="16113"/>
                </a:cubicBezTo>
                <a:cubicBezTo>
                  <a:pt x="3119" y="16167"/>
                  <a:pt x="2992" y="16225"/>
                  <a:pt x="2858" y="16331"/>
                </a:cubicBezTo>
                <a:cubicBezTo>
                  <a:pt x="2753" y="16415"/>
                  <a:pt x="2677" y="16528"/>
                  <a:pt x="2600" y="16629"/>
                </a:cubicBezTo>
                <a:cubicBezTo>
                  <a:pt x="2548" y="16697"/>
                  <a:pt x="2501" y="16749"/>
                  <a:pt x="2461" y="16828"/>
                </a:cubicBezTo>
                <a:cubicBezTo>
                  <a:pt x="2424" y="16900"/>
                  <a:pt x="2406" y="16950"/>
                  <a:pt x="2381" y="17026"/>
                </a:cubicBezTo>
                <a:cubicBezTo>
                  <a:pt x="2362" y="17085"/>
                  <a:pt x="2372" y="17182"/>
                  <a:pt x="2361" y="17244"/>
                </a:cubicBezTo>
                <a:cubicBezTo>
                  <a:pt x="2325" y="17438"/>
                  <a:pt x="2272" y="17687"/>
                  <a:pt x="2361" y="17879"/>
                </a:cubicBezTo>
                <a:cubicBezTo>
                  <a:pt x="2506" y="18190"/>
                  <a:pt x="2812" y="18344"/>
                  <a:pt x="3115" y="18455"/>
                </a:cubicBezTo>
                <a:cubicBezTo>
                  <a:pt x="3508" y="18599"/>
                  <a:pt x="4051" y="18569"/>
                  <a:pt x="4465" y="18534"/>
                </a:cubicBezTo>
                <a:cubicBezTo>
                  <a:pt x="4792" y="18507"/>
                  <a:pt x="5115" y="18422"/>
                  <a:pt x="5437" y="18375"/>
                </a:cubicBezTo>
                <a:cubicBezTo>
                  <a:pt x="5635" y="18346"/>
                  <a:pt x="5834" y="18335"/>
                  <a:pt x="6032" y="18316"/>
                </a:cubicBezTo>
                <a:cubicBezTo>
                  <a:pt x="6184" y="18301"/>
                  <a:pt x="6336" y="18286"/>
                  <a:pt x="6489" y="18276"/>
                </a:cubicBezTo>
                <a:cubicBezTo>
                  <a:pt x="7715" y="18198"/>
                  <a:pt x="8937" y="18323"/>
                  <a:pt x="10160" y="18197"/>
                </a:cubicBezTo>
                <a:cubicBezTo>
                  <a:pt x="10406" y="18172"/>
                  <a:pt x="10668" y="18126"/>
                  <a:pt x="10914" y="18117"/>
                </a:cubicBezTo>
                <a:cubicBezTo>
                  <a:pt x="11398" y="18098"/>
                  <a:pt x="11877" y="18071"/>
                  <a:pt x="12363" y="18078"/>
                </a:cubicBezTo>
                <a:cubicBezTo>
                  <a:pt x="12849" y="18085"/>
                  <a:pt x="13327" y="18135"/>
                  <a:pt x="13811" y="18177"/>
                </a:cubicBezTo>
                <a:cubicBezTo>
                  <a:pt x="14734" y="18257"/>
                  <a:pt x="15655" y="18258"/>
                  <a:pt x="16570" y="18157"/>
                </a:cubicBezTo>
                <a:cubicBezTo>
                  <a:pt x="16773" y="18135"/>
                  <a:pt x="16981" y="18120"/>
                  <a:pt x="17185" y="18098"/>
                </a:cubicBezTo>
                <a:cubicBezTo>
                  <a:pt x="17368" y="18078"/>
                  <a:pt x="17557" y="18060"/>
                  <a:pt x="17740" y="18038"/>
                </a:cubicBezTo>
                <a:cubicBezTo>
                  <a:pt x="17908" y="18018"/>
                  <a:pt x="18066" y="17990"/>
                  <a:pt x="18236" y="17978"/>
                </a:cubicBezTo>
                <a:cubicBezTo>
                  <a:pt x="19789" y="17870"/>
                  <a:pt x="21609" y="18305"/>
                  <a:pt x="23118" y="17998"/>
                </a:cubicBezTo>
                <a:cubicBezTo>
                  <a:pt x="23251" y="17971"/>
                  <a:pt x="23342" y="17957"/>
                  <a:pt x="23455" y="17879"/>
                </a:cubicBezTo>
                <a:cubicBezTo>
                  <a:pt x="23580" y="17793"/>
                  <a:pt x="23621" y="17741"/>
                  <a:pt x="23674" y="17601"/>
                </a:cubicBezTo>
                <a:cubicBezTo>
                  <a:pt x="23719" y="17483"/>
                  <a:pt x="23694" y="17327"/>
                  <a:pt x="23674" y="17205"/>
                </a:cubicBezTo>
                <a:cubicBezTo>
                  <a:pt x="23653" y="17080"/>
                  <a:pt x="23578" y="16960"/>
                  <a:pt x="23515" y="16847"/>
                </a:cubicBezTo>
                <a:cubicBezTo>
                  <a:pt x="23463" y="16755"/>
                  <a:pt x="23403" y="16650"/>
                  <a:pt x="23336" y="16570"/>
                </a:cubicBezTo>
                <a:cubicBezTo>
                  <a:pt x="23254" y="16472"/>
                  <a:pt x="23139" y="16393"/>
                  <a:pt x="23039" y="16312"/>
                </a:cubicBezTo>
                <a:cubicBezTo>
                  <a:pt x="22920" y="16216"/>
                  <a:pt x="22792" y="16131"/>
                  <a:pt x="22662" y="16054"/>
                </a:cubicBezTo>
                <a:cubicBezTo>
                  <a:pt x="22378" y="15887"/>
                  <a:pt x="22076" y="15757"/>
                  <a:pt x="21769" y="15637"/>
                </a:cubicBezTo>
                <a:cubicBezTo>
                  <a:pt x="21215" y="15421"/>
                  <a:pt x="20647" y="15388"/>
                  <a:pt x="20062" y="15339"/>
                </a:cubicBezTo>
                <a:cubicBezTo>
                  <a:pt x="19593" y="15300"/>
                  <a:pt x="19126" y="15284"/>
                  <a:pt x="18653" y="15319"/>
                </a:cubicBezTo>
                <a:cubicBezTo>
                  <a:pt x="17856" y="15378"/>
                  <a:pt x="17070" y="15447"/>
                  <a:pt x="16272" y="15478"/>
                </a:cubicBezTo>
                <a:cubicBezTo>
                  <a:pt x="16034" y="15487"/>
                  <a:pt x="15796" y="15488"/>
                  <a:pt x="15558" y="15498"/>
                </a:cubicBezTo>
                <a:cubicBezTo>
                  <a:pt x="14967" y="15522"/>
                  <a:pt x="14384" y="15558"/>
                  <a:pt x="13791" y="15558"/>
                </a:cubicBezTo>
                <a:cubicBezTo>
                  <a:pt x="13360" y="15558"/>
                  <a:pt x="12925" y="15576"/>
                  <a:pt x="12502" y="15518"/>
                </a:cubicBezTo>
                <a:cubicBezTo>
                  <a:pt x="12380" y="15501"/>
                  <a:pt x="12264" y="15482"/>
                  <a:pt x="12144" y="15458"/>
                </a:cubicBezTo>
                <a:cubicBezTo>
                  <a:pt x="11868" y="15403"/>
                  <a:pt x="11571" y="15345"/>
                  <a:pt x="11311" y="15280"/>
                </a:cubicBezTo>
                <a:cubicBezTo>
                  <a:pt x="11255" y="15266"/>
                  <a:pt x="11205" y="15253"/>
                  <a:pt x="11152" y="15240"/>
                </a:cubicBezTo>
                <a:cubicBezTo>
                  <a:pt x="11076" y="15221"/>
                  <a:pt x="11030" y="15178"/>
                  <a:pt x="10954" y="15161"/>
                </a:cubicBezTo>
                <a:cubicBezTo>
                  <a:pt x="10890" y="15146"/>
                  <a:pt x="10821" y="15159"/>
                  <a:pt x="10755" y="15141"/>
                </a:cubicBezTo>
                <a:cubicBezTo>
                  <a:pt x="10686" y="15122"/>
                  <a:pt x="10655" y="15116"/>
                  <a:pt x="10597" y="15101"/>
                </a:cubicBezTo>
                <a:cubicBezTo>
                  <a:pt x="10575" y="15095"/>
                  <a:pt x="10538" y="15061"/>
                  <a:pt x="10537" y="15061"/>
                </a:cubicBezTo>
                <a:cubicBezTo>
                  <a:pt x="10477" y="15046"/>
                  <a:pt x="10454" y="15057"/>
                  <a:pt x="10398" y="15042"/>
                </a:cubicBezTo>
                <a:cubicBezTo>
                  <a:pt x="10364" y="15033"/>
                  <a:pt x="10294" y="15006"/>
                  <a:pt x="10279" y="15002"/>
                </a:cubicBezTo>
                <a:cubicBezTo>
                  <a:pt x="10241" y="14992"/>
                  <a:pt x="10225" y="14988"/>
                  <a:pt x="10200" y="14982"/>
                </a:cubicBezTo>
              </a:path>
            </a:pathLst>
          </a:custGeom>
          <a:noFill/>
          <a:ln cap="rnd" w="3492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4076640"/>
            <a:ext cx="7885080" cy="1871640"/>
          </a:xfrm>
          <a:prstGeom prst="cloudCallout">
            <a:avLst>
              <a:gd name="adj1" fmla="val -21472"/>
              <a:gd name="adj2" fmla="val 6153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700280"/>
            <a:ext cx="7885080" cy="1871640"/>
          </a:xfrm>
          <a:prstGeom prst="cloudCallout">
            <a:avLst>
              <a:gd name="adj1" fmla="val -21472"/>
              <a:gd name="adj2" fmla="val 6153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333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Уcтapeвшая лeкc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apхаизмы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apxивapиyc, канцеляриc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иcapь, чeлoбитнaя, мeмopи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cтopиз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epнильницa, пpecc-пaпьe,пeнcн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7640" y="620280"/>
            <a:ext cx="7086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Зaимcтвoвaнные</a:t>
            </a:r>
            <a:r>
              <a:rPr b="1" lang="ru-RU" sz="4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cлo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83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01"/>
                </a:solidFill>
                <a:latin typeface="Tahoma"/>
              </a:rPr>
              <a:t>1)название новых вещей, предметов, явле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о, кино, телевизор, компьютер, презентац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01"/>
                </a:solidFill>
                <a:latin typeface="Tahoma"/>
              </a:rPr>
              <a:t>2)название государственных учреждений и должносте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рламент, премьер- министр, мэр, администра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01"/>
                </a:solidFill>
                <a:latin typeface="Tahoma"/>
              </a:rPr>
              <a:t>3) синонимы к русским слова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ют- комфорт, сообщение- информация, общение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муникация, ввоз- импор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01"/>
                </a:solidFill>
                <a:latin typeface="Tahoma"/>
              </a:rPr>
              <a:t>4) однословные наименования, заменяющие сочетания сл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айпер- меткий стрелок, сейф- несгораемый шкаф, сервант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каф для посу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4000" y="692280"/>
            <a:ext cx="417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Сокращ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597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aббpeвиaтypы)   - cлoжнocoкpaщeнные слoв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oбpaзoвaнныe пyтeм yдaлeния чacти сocтaвляющи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x букв ил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чacтeй cлo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CHГ, Mocкaпpeмoнт, зaм., cпeцнaз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пpимeняeмыe  в  пиcьм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coкpaщенныe  oбoзнaчeния cлo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-н, тчк, ж.-д., кв.м, л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92360" y="1700280"/>
            <a:ext cx="4464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eкcичecкиe    </a:t>
            </a: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6360" y="443700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е   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3357720"/>
            <a:ext cx="3744720" cy="576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амостоятельные с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6281640"/>
            <a:ext cx="374472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ловами не яв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6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1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1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1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6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1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6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63640" y="88560"/>
            <a:ext cx="50353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Жаргонизм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 rot="20680800">
            <a:off x="519120" y="2233440"/>
            <a:ext cx="84232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жаргонная лекси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рго, сленг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фамильярно-разговорная реч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47:36Z</dcterms:created>
  <dc:creator>анатолий</dc:creator>
  <dc:description/>
  <dc:language>en-US</dc:language>
  <cp:lastModifiedBy>BLACKGIRL</cp:lastModifiedBy>
  <dcterms:modified xsi:type="dcterms:W3CDTF">2010-01-29T23:15:16Z</dcterms:modified>
  <cp:revision>9</cp:revision>
  <dc:subject/>
  <dc:title>jhvgikjubgkij</dc:title>
</cp:coreProperties>
</file>